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6D61-9822-4DCF-87B2-32880A86F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50C7-BCC4-494B-841F-EDC6939E1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A2F1-6E33-4E46-8E5D-CE79B4C0E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BB2-08BE-4DFA-9D6B-9D0B6154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F778-5B3B-43EE-8842-135BB4B8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DDF-2409-4C05-B5BA-471CD7188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727-5AA6-49BC-81A9-A4E45A1D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D64-2856-4534-83CD-14A21A13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2BB-9E87-4D75-9F81-C27583AC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DAF-B921-4E8A-84D5-2CF0DA29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8EAF-9F2E-4EE3-AAE3-4630E50D4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32C2-5806-4D68-BAE1-D4FBD892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C388-58F3-40AF-82C1-6FE37CCA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4BA1-8B6B-40C1-9023-67DCDE15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E92F-7C28-481A-9DCA-634A2D4947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glish (11 &amp; 12), History, Government, Sciences, Math, Languages, Computer Scien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required to complete AP Exam (May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s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-Feb – Guidance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 attends one day per we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15 hours /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 GIEP requirements for goal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meet with similarly identified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display time management, communication and personal responsibility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t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omputer Gaming, Culinary Arts, Dance, Dentistry, Elementary Education, Information Technology, Law, Media, Meteorology, Music Education, Orthodontics, Pharmacy, Photography, Physical Therap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hletics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llenging, mathematical applications and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(MS by inv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, afterschool meetings, outside of school competi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a announcement, fall 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pplication, problem solving, and interpersonal skills within the context of building and programming “robot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o MindStorms® and Legos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 10, 11, 12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5000"/>
          </a:bodyPr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, grades 10-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Todd Gunther, grade 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tgu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,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ing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EM Magnet@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.T.E.M. Magnet@B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ience, Technology, Engineering &amp; Mathematics Magnet Program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ge-based instruction for high ability math and science students from reg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day BHS, Half-day 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des 11, 12 only (6-8 stude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BHS credits,15 college credits /y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, April Sophomore 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46483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M Magnet@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0" lang="en-US" sz="3000" spc="-1" strike="noStrike">
                <a:solidFill>
                  <a:srgbClr val="c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48320" y="2057400"/>
            <a:ext cx="3962160" cy="51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Semin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l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ob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End User</cp:lastModifiedBy>
  <dcterms:modified xsi:type="dcterms:W3CDTF">2013-03-15T14:05:52Z</dcterms:modified>
  <cp:revision>51</cp:revision>
  <dc:subject/>
  <dc:title>Berwick Area High School</dc:title>
</cp:coreProperties>
</file>